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470-B154-4F8D-8290-8AA104ABA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CA14-1042-4C31-8289-BA060FCC93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9A0-7827-4E4C-BE43-FDC55458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CB6-1972-4232-A1C2-692F93E1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D3F-055C-4A0A-9DF9-476B0962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BFA-331C-4B17-B04D-3422B46A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25B1-399E-4F3B-9AB5-A3990CB2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1EB-20D9-4722-920C-8991FAE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ED4-7763-4FE4-87EE-FB7CF670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42A-BC99-4BFB-8238-68EEB2CB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8794-FA2A-4B67-8DE0-68699700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BC0-1FCA-457A-A17C-F99DCC3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614-A3B0-4D41-87A6-D4516DA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287-9DE5-4AD1-A4E8-96E85DE2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821-263B-4D79-81BE-052862E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8FE-3DB8-4425-B295-94C4B7F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C5F-16CA-47D3-8CCC-3554EBE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489-5A19-41EC-87C0-D0849108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99FC-F7A8-42A8-9D02-ACF31733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467F-87D0-4AF4-86ED-64E60546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C47D-E337-428C-8D29-6F1CD0C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91A8-88FB-41B1-ABF8-1CBC7F11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8BA3-80AB-460F-9F61-15D6663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18F4-996A-4988-9CB2-D5261D8C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049-9897-4C09-83F5-FC61FCC1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FFDA-ED0A-44B4-B083-0188C50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3961-F882-4B6B-876E-1F4ACDB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5643-43A2-4E01-A0CE-CFDB066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FF28-B369-4788-A5CB-7D36BC6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2630-2516-48D1-8567-859FFED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41BB-874D-457B-BA91-ACF34A7E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6E79-3F1D-4622-9F48-B5A95FCF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CD4F-E6A0-4210-A7AF-58E734F2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24F09-7D64-414E-9EFF-0F7DDE3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48BB-6268-4CF8-A36B-9662FD3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CF3-7B90-4DC2-BDDC-57B70BC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52F9-2929-45D5-AD08-378802D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2B83-2CA9-4EE3-9956-B477E536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E76A-AC3C-4333-A792-01278A8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819B-CC6D-44C9-8C7C-B14E59D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9AE4-35C7-4465-A9DA-77D3A22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297C-C915-4D48-94BB-84B9009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91EB-79B3-4C72-BC2E-4BEA1D5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A29C-20DB-4BEB-8588-0B959F55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B0F2-0BE1-4F73-B964-12926B1D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2C4D-8760-4069-9F45-4C242A1B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617-294B-401B-9478-486D6D8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9AAB-594E-44B6-892F-636B1A01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5D21-903E-49CD-B867-8C3374C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ACE7-AEE2-460F-869F-DAF9B64C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38417-C525-4534-BFC6-0E63DDEA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C6AB-B92C-41B3-9844-00E7A90A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0C3AE-8151-427C-B83D-F5DB81D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654F-4E89-476A-AE32-034145C4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7CA7F-1CD9-4DE0-B6F9-0F03693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FFF9D-C789-440D-ABC5-62785E5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730B-7ABF-40C4-AC0D-94A11638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E8A-B73C-4E87-B859-D10DAFB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FCD3-BF08-415E-96F0-6D2F5BD0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3AA3-2309-4DD3-82CA-8F8F1DED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A376-6326-477C-867A-83285B37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EBF6-3C5A-4EB9-9916-21BD920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C2A4-6E1B-4931-99E6-5A1B85F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33B4-92BC-40C8-985B-300A8D10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87EAC-CAAF-47A7-B74C-934A6035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9ED5-46E2-452D-8B31-1E3CBFB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DF40-1FBC-40B1-9B02-4C01009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5467-8987-4F15-989B-D5269531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6D4-4DA6-436E-AA24-256ACE5E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AAD3-CE22-4327-A608-E746063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2B7D-F1C7-400F-BFBE-D0B61A7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6C0F-08EA-4F53-9A64-44CC22DF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1E27-DCC8-4B03-A1F4-C69F1C8E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BD51-51AC-43AE-9966-500896FD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E707-910A-48F2-8CEB-A8C8D46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01A3-70A2-4AAF-8A3E-07A14DF2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B9BBE-C41D-4F85-9136-9DEF8891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E2B5-9402-4D26-83D0-508914C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EC0E6-D1F2-46C7-8F4D-FCE9245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106-A570-4C7C-B09C-16B21D5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2BB16-406E-4A9D-AC36-1AEF332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2DB9-216C-4345-9E60-A1E0585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289F-7975-4B2E-9B18-16BEA3E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FB9B0-A9C6-44A4-B21D-1798424F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1DE2-EAE4-404F-9920-007C0BF5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CC12-D241-4CB7-9B19-5E4FE09A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A5217-7594-4580-A36E-ACD31CA3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38E5-9268-4767-A042-5696E47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DA879-0E70-4DC8-8841-2D256023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4225C-B758-45B2-942E-24FBC60A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2CB-AD1D-4ABF-8DBE-2E6C4AB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A979-2A2E-4E2C-A367-A69EFB1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1A14-825B-4583-B933-9E037CF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35738-8B1C-40E6-9D56-AEB5F02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0DA6-397B-425B-A218-796B711E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46356-F00E-40B0-815B-07E716F9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18C5-B2AB-49D6-AE3C-3252F63E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C085-8B18-46C3-92AF-4A69AEB3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20C7-490B-4EB2-AF86-81D225F16D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87A-6EF1-4722-93D4-BAF188ABB2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23F-FC96-47D0-B578-C3BD8A5412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035F-441E-4248-A7A6-673DEBD61C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B35-BC94-46E3-9924-AA01A5F96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CCE-D7B1-4B42-9425-79048469B6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2F5A-4BDD-4C69-8184-98B08137B6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8F5-18CC-4A79-AF0D-FE7A721990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9040" y="695160"/>
            <a:ext cx="7772400" cy="2907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Реки. Речная систем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322280" y="620640"/>
            <a:ext cx="669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!!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69800" y="1987560"/>
            <a:ext cx="82296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и — раковины тропических моллюс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ри - морской брюхоногий моллюск семейства ципрей, обитающий в Индийском океа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раковины каури использовались в качестве денег в Китае, Индии, на Аравийском полуострове и в Африк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rcRect l="18385" t="8843" r="41206" b="8359"/>
          <a:stretch/>
        </p:blipFill>
        <p:spPr>
          <a:xfrm>
            <a:off x="174600" y="260280"/>
            <a:ext cx="8790120" cy="6559560"/>
          </a:xfrm>
          <a:prstGeom prst="rect">
            <a:avLst/>
          </a:prstGeom>
          <a:ln w="0">
            <a:noFill/>
          </a:ln>
        </p:spPr>
      </p:pic>
      <p:sp>
        <p:nvSpPr>
          <p:cNvPr id="385" name="Полилиния 3"/>
          <p:cNvSpPr/>
          <p:nvPr/>
        </p:nvSpPr>
        <p:spPr>
          <a:xfrm>
            <a:off x="2098800" y="1685880"/>
            <a:ext cx="2320920" cy="3286080"/>
          </a:xfrm>
          <a:custGeom>
            <a:avLst/>
            <a:gdLst/>
            <a:ahLst/>
            <a:rect l="l" t="t" r="r" b="b"/>
            <a:pathLst>
              <a:path w="2320535" h="3286125">
                <a:moveTo>
                  <a:pt x="1682360" y="3286125"/>
                </a:moveTo>
                <a:cubicBezTo>
                  <a:pt x="1691885" y="3270250"/>
                  <a:pt x="1709331" y="3256944"/>
                  <a:pt x="1710935" y="3238500"/>
                </a:cubicBezTo>
                <a:cubicBezTo>
                  <a:pt x="1715894" y="3181477"/>
                  <a:pt x="1707971" y="3123911"/>
                  <a:pt x="1701410" y="3067050"/>
                </a:cubicBezTo>
                <a:cubicBezTo>
                  <a:pt x="1698409" y="3041041"/>
                  <a:pt x="1690639" y="3015688"/>
                  <a:pt x="1682360" y="2990850"/>
                </a:cubicBezTo>
                <a:cubicBezTo>
                  <a:pt x="1672929" y="2962556"/>
                  <a:pt x="1666901" y="2927766"/>
                  <a:pt x="1644260" y="2905125"/>
                </a:cubicBezTo>
                <a:cubicBezTo>
                  <a:pt x="1636165" y="2897030"/>
                  <a:pt x="1625210" y="2892425"/>
                  <a:pt x="1615685" y="2886075"/>
                </a:cubicBezTo>
                <a:cubicBezTo>
                  <a:pt x="1609335" y="2876550"/>
                  <a:pt x="1606160" y="2863850"/>
                  <a:pt x="1596635" y="2857500"/>
                </a:cubicBezTo>
                <a:cubicBezTo>
                  <a:pt x="1585743" y="2850238"/>
                  <a:pt x="1571074" y="2851737"/>
                  <a:pt x="1558535" y="2847975"/>
                </a:cubicBezTo>
                <a:cubicBezTo>
                  <a:pt x="1539301" y="2842205"/>
                  <a:pt x="1520435" y="2835275"/>
                  <a:pt x="1501385" y="2828925"/>
                </a:cubicBezTo>
                <a:lnTo>
                  <a:pt x="1472810" y="2819400"/>
                </a:lnTo>
                <a:cubicBezTo>
                  <a:pt x="1463285" y="2816225"/>
                  <a:pt x="1453975" y="2812310"/>
                  <a:pt x="1444235" y="2809875"/>
                </a:cubicBezTo>
                <a:cubicBezTo>
                  <a:pt x="1386654" y="2795480"/>
                  <a:pt x="1418554" y="2804490"/>
                  <a:pt x="1348985" y="2781300"/>
                </a:cubicBezTo>
                <a:cubicBezTo>
                  <a:pt x="1339460" y="2778125"/>
                  <a:pt x="1328764" y="2777344"/>
                  <a:pt x="1320410" y="2771775"/>
                </a:cubicBezTo>
                <a:cubicBezTo>
                  <a:pt x="1283481" y="2747156"/>
                  <a:pt x="1302695" y="2756345"/>
                  <a:pt x="1263260" y="2743200"/>
                </a:cubicBezTo>
                <a:cubicBezTo>
                  <a:pt x="1138744" y="2649813"/>
                  <a:pt x="1289678" y="2769618"/>
                  <a:pt x="1206110" y="2686050"/>
                </a:cubicBezTo>
                <a:cubicBezTo>
                  <a:pt x="1178813" y="2658753"/>
                  <a:pt x="1179948" y="2672969"/>
                  <a:pt x="1148960" y="2657475"/>
                </a:cubicBezTo>
                <a:cubicBezTo>
                  <a:pt x="1138721" y="2652355"/>
                  <a:pt x="1130624" y="2643545"/>
                  <a:pt x="1120385" y="2638425"/>
                </a:cubicBezTo>
                <a:cubicBezTo>
                  <a:pt x="1111405" y="2633935"/>
                  <a:pt x="1101840" y="2629346"/>
                  <a:pt x="1091810" y="2628900"/>
                </a:cubicBezTo>
                <a:cubicBezTo>
                  <a:pt x="958554" y="2622978"/>
                  <a:pt x="825110" y="2622550"/>
                  <a:pt x="691760" y="2619375"/>
                </a:cubicBezTo>
                <a:cubicBezTo>
                  <a:pt x="637111" y="2601159"/>
                  <a:pt x="688122" y="2622895"/>
                  <a:pt x="634610" y="2581275"/>
                </a:cubicBezTo>
                <a:cubicBezTo>
                  <a:pt x="616538" y="2567219"/>
                  <a:pt x="593649" y="2559364"/>
                  <a:pt x="577460" y="2543175"/>
                </a:cubicBezTo>
                <a:cubicBezTo>
                  <a:pt x="567935" y="2533650"/>
                  <a:pt x="559233" y="2523224"/>
                  <a:pt x="548885" y="2514600"/>
                </a:cubicBezTo>
                <a:cubicBezTo>
                  <a:pt x="540091" y="2507271"/>
                  <a:pt x="528405" y="2503645"/>
                  <a:pt x="520310" y="2495550"/>
                </a:cubicBezTo>
                <a:cubicBezTo>
                  <a:pt x="509085" y="2484325"/>
                  <a:pt x="500962" y="2470368"/>
                  <a:pt x="491735" y="2457450"/>
                </a:cubicBezTo>
                <a:cubicBezTo>
                  <a:pt x="485081" y="2448135"/>
                  <a:pt x="480780" y="2436970"/>
                  <a:pt x="472685" y="2428875"/>
                </a:cubicBezTo>
                <a:cubicBezTo>
                  <a:pt x="464590" y="2420780"/>
                  <a:pt x="453635" y="2416175"/>
                  <a:pt x="444110" y="2409825"/>
                </a:cubicBezTo>
                <a:cubicBezTo>
                  <a:pt x="403242" y="2328088"/>
                  <a:pt x="450337" y="2406527"/>
                  <a:pt x="396485" y="2352675"/>
                </a:cubicBezTo>
                <a:cubicBezTo>
                  <a:pt x="388390" y="2344580"/>
                  <a:pt x="386374" y="2331251"/>
                  <a:pt x="377435" y="2324100"/>
                </a:cubicBezTo>
                <a:cubicBezTo>
                  <a:pt x="369595" y="2317828"/>
                  <a:pt x="357637" y="2319451"/>
                  <a:pt x="348860" y="2314575"/>
                </a:cubicBezTo>
                <a:cubicBezTo>
                  <a:pt x="250604" y="2259988"/>
                  <a:pt x="327793" y="2288503"/>
                  <a:pt x="263135" y="2266950"/>
                </a:cubicBezTo>
                <a:cubicBezTo>
                  <a:pt x="245190" y="2249005"/>
                  <a:pt x="226119" y="2233670"/>
                  <a:pt x="215510" y="2209800"/>
                </a:cubicBezTo>
                <a:cubicBezTo>
                  <a:pt x="207355" y="2191450"/>
                  <a:pt x="196460" y="2152650"/>
                  <a:pt x="196460" y="2152650"/>
                </a:cubicBezTo>
                <a:cubicBezTo>
                  <a:pt x="193285" y="2117725"/>
                  <a:pt x="194283" y="2082166"/>
                  <a:pt x="186935" y="2047875"/>
                </a:cubicBezTo>
                <a:cubicBezTo>
                  <a:pt x="180861" y="2019530"/>
                  <a:pt x="158084" y="2015895"/>
                  <a:pt x="139310" y="2000250"/>
                </a:cubicBezTo>
                <a:cubicBezTo>
                  <a:pt x="128962" y="1991626"/>
                  <a:pt x="120872" y="1980545"/>
                  <a:pt x="110735" y="1971675"/>
                </a:cubicBezTo>
                <a:cubicBezTo>
                  <a:pt x="95435" y="1958288"/>
                  <a:pt x="77485" y="1947950"/>
                  <a:pt x="63110" y="1933575"/>
                </a:cubicBezTo>
                <a:cubicBezTo>
                  <a:pt x="20026" y="1890491"/>
                  <a:pt x="71115" y="1914018"/>
                  <a:pt x="15485" y="1895475"/>
                </a:cubicBezTo>
                <a:cubicBezTo>
                  <a:pt x="4944" y="1863852"/>
                  <a:pt x="-13333" y="1822720"/>
                  <a:pt x="15485" y="1790700"/>
                </a:cubicBezTo>
                <a:cubicBezTo>
                  <a:pt x="27091" y="1777804"/>
                  <a:pt x="153137" y="1762811"/>
                  <a:pt x="167885" y="1762125"/>
                </a:cubicBezTo>
                <a:cubicBezTo>
                  <a:pt x="278935" y="1756960"/>
                  <a:pt x="390135" y="1755775"/>
                  <a:pt x="501260" y="1752600"/>
                </a:cubicBezTo>
                <a:cubicBezTo>
                  <a:pt x="510785" y="1746250"/>
                  <a:pt x="521041" y="1740879"/>
                  <a:pt x="529835" y="1733550"/>
                </a:cubicBezTo>
                <a:cubicBezTo>
                  <a:pt x="540183" y="1724926"/>
                  <a:pt x="547202" y="1712447"/>
                  <a:pt x="558410" y="1704975"/>
                </a:cubicBezTo>
                <a:cubicBezTo>
                  <a:pt x="566764" y="1699406"/>
                  <a:pt x="578005" y="1699940"/>
                  <a:pt x="586985" y="1695450"/>
                </a:cubicBezTo>
                <a:cubicBezTo>
                  <a:pt x="597224" y="1690330"/>
                  <a:pt x="606035" y="1682750"/>
                  <a:pt x="615560" y="1676400"/>
                </a:cubicBezTo>
                <a:cubicBezTo>
                  <a:pt x="634610" y="1679575"/>
                  <a:pt x="654883" y="1678497"/>
                  <a:pt x="672710" y="1685925"/>
                </a:cubicBezTo>
                <a:cubicBezTo>
                  <a:pt x="693844" y="1694731"/>
                  <a:pt x="729860" y="1724025"/>
                  <a:pt x="729860" y="1724025"/>
                </a:cubicBezTo>
                <a:cubicBezTo>
                  <a:pt x="777485" y="1720850"/>
                  <a:pt x="826302" y="1725555"/>
                  <a:pt x="872735" y="1714500"/>
                </a:cubicBezTo>
                <a:cubicBezTo>
                  <a:pt x="918138" y="1703690"/>
                  <a:pt x="927201" y="1672137"/>
                  <a:pt x="958460" y="1647825"/>
                </a:cubicBezTo>
                <a:lnTo>
                  <a:pt x="1044185" y="1590675"/>
                </a:lnTo>
                <a:cubicBezTo>
                  <a:pt x="1053710" y="1584325"/>
                  <a:pt x="1064665" y="1579720"/>
                  <a:pt x="1072760" y="1571625"/>
                </a:cubicBezTo>
                <a:cubicBezTo>
                  <a:pt x="1097415" y="1546970"/>
                  <a:pt x="1128042" y="1520079"/>
                  <a:pt x="1139435" y="1485900"/>
                </a:cubicBezTo>
                <a:lnTo>
                  <a:pt x="1148960" y="1457325"/>
                </a:lnTo>
                <a:cubicBezTo>
                  <a:pt x="1145785" y="1403350"/>
                  <a:pt x="1143287" y="1349331"/>
                  <a:pt x="1139435" y="1295400"/>
                </a:cubicBezTo>
                <a:cubicBezTo>
                  <a:pt x="1131851" y="1189230"/>
                  <a:pt x="1122452" y="1207834"/>
                  <a:pt x="1139435" y="1114425"/>
                </a:cubicBezTo>
                <a:cubicBezTo>
                  <a:pt x="1147451" y="1070335"/>
                  <a:pt x="1149238" y="1099511"/>
                  <a:pt x="1168010" y="1057275"/>
                </a:cubicBezTo>
                <a:cubicBezTo>
                  <a:pt x="1176165" y="1038925"/>
                  <a:pt x="1187060" y="1000125"/>
                  <a:pt x="1187060" y="1000125"/>
                </a:cubicBezTo>
                <a:cubicBezTo>
                  <a:pt x="1184138" y="965057"/>
                  <a:pt x="1196481" y="890496"/>
                  <a:pt x="1158485" y="857250"/>
                </a:cubicBezTo>
                <a:cubicBezTo>
                  <a:pt x="1141255" y="842173"/>
                  <a:pt x="1120385" y="831850"/>
                  <a:pt x="1101335" y="819150"/>
                </a:cubicBezTo>
                <a:lnTo>
                  <a:pt x="1072760" y="800100"/>
                </a:lnTo>
                <a:lnTo>
                  <a:pt x="1044185" y="781050"/>
                </a:lnTo>
                <a:cubicBezTo>
                  <a:pt x="1037835" y="771525"/>
                  <a:pt x="1034074" y="759626"/>
                  <a:pt x="1025135" y="752475"/>
                </a:cubicBezTo>
                <a:cubicBezTo>
                  <a:pt x="1017295" y="746203"/>
                  <a:pt x="1003660" y="750050"/>
                  <a:pt x="996560" y="742950"/>
                </a:cubicBezTo>
                <a:cubicBezTo>
                  <a:pt x="989460" y="735850"/>
                  <a:pt x="991525" y="723355"/>
                  <a:pt x="987035" y="714375"/>
                </a:cubicBezTo>
                <a:cubicBezTo>
                  <a:pt x="981915" y="704136"/>
                  <a:pt x="974335" y="695325"/>
                  <a:pt x="967985" y="685800"/>
                </a:cubicBezTo>
                <a:cubicBezTo>
                  <a:pt x="987035" y="673100"/>
                  <a:pt x="1003415" y="654940"/>
                  <a:pt x="1025135" y="647700"/>
                </a:cubicBezTo>
                <a:cubicBezTo>
                  <a:pt x="1093648" y="624862"/>
                  <a:pt x="1008089" y="652570"/>
                  <a:pt x="1091810" y="628650"/>
                </a:cubicBezTo>
                <a:cubicBezTo>
                  <a:pt x="1101464" y="625892"/>
                  <a:pt x="1110584" y="621303"/>
                  <a:pt x="1120385" y="619125"/>
                </a:cubicBezTo>
                <a:cubicBezTo>
                  <a:pt x="1144174" y="613839"/>
                  <a:pt x="1222941" y="603113"/>
                  <a:pt x="1244210" y="600075"/>
                </a:cubicBezTo>
                <a:cubicBezTo>
                  <a:pt x="1253735" y="596900"/>
                  <a:pt x="1264008" y="595426"/>
                  <a:pt x="1272785" y="590550"/>
                </a:cubicBezTo>
                <a:cubicBezTo>
                  <a:pt x="1292799" y="579431"/>
                  <a:pt x="1329935" y="552450"/>
                  <a:pt x="1329935" y="552450"/>
                </a:cubicBezTo>
                <a:cubicBezTo>
                  <a:pt x="1340492" y="520779"/>
                  <a:pt x="1343341" y="483835"/>
                  <a:pt x="1377560" y="466725"/>
                </a:cubicBezTo>
                <a:cubicBezTo>
                  <a:pt x="1392040" y="459485"/>
                  <a:pt x="1409184" y="459662"/>
                  <a:pt x="1425185" y="457200"/>
                </a:cubicBezTo>
                <a:cubicBezTo>
                  <a:pt x="1450485" y="453308"/>
                  <a:pt x="1476136" y="451883"/>
                  <a:pt x="1501385" y="447675"/>
                </a:cubicBezTo>
                <a:cubicBezTo>
                  <a:pt x="1514298" y="445523"/>
                  <a:pt x="1526648" y="440717"/>
                  <a:pt x="1539485" y="438150"/>
                </a:cubicBezTo>
                <a:cubicBezTo>
                  <a:pt x="1558423" y="434362"/>
                  <a:pt x="1577899" y="433309"/>
                  <a:pt x="1596635" y="428625"/>
                </a:cubicBezTo>
                <a:cubicBezTo>
                  <a:pt x="1616116" y="423755"/>
                  <a:pt x="1634735" y="415925"/>
                  <a:pt x="1653785" y="409575"/>
                </a:cubicBezTo>
                <a:lnTo>
                  <a:pt x="1682360" y="400050"/>
                </a:lnTo>
                <a:lnTo>
                  <a:pt x="1710935" y="390525"/>
                </a:lnTo>
                <a:cubicBezTo>
                  <a:pt x="1726810" y="393700"/>
                  <a:pt x="1742941" y="395790"/>
                  <a:pt x="1758560" y="400050"/>
                </a:cubicBezTo>
                <a:cubicBezTo>
                  <a:pt x="1777933" y="405334"/>
                  <a:pt x="1815710" y="419100"/>
                  <a:pt x="1815710" y="419100"/>
                </a:cubicBezTo>
                <a:cubicBezTo>
                  <a:pt x="1818885" y="409575"/>
                  <a:pt x="1825235" y="400565"/>
                  <a:pt x="1825235" y="390525"/>
                </a:cubicBezTo>
                <a:cubicBezTo>
                  <a:pt x="1825235" y="366584"/>
                  <a:pt x="1806292" y="352638"/>
                  <a:pt x="1796660" y="333375"/>
                </a:cubicBezTo>
                <a:cubicBezTo>
                  <a:pt x="1792170" y="324395"/>
                  <a:pt x="1790310" y="314325"/>
                  <a:pt x="1787135" y="304800"/>
                </a:cubicBezTo>
                <a:cubicBezTo>
                  <a:pt x="1790310" y="295275"/>
                  <a:pt x="1789560" y="283325"/>
                  <a:pt x="1796660" y="276225"/>
                </a:cubicBezTo>
                <a:cubicBezTo>
                  <a:pt x="1801572" y="271313"/>
                  <a:pt x="1851107" y="248493"/>
                  <a:pt x="1863335" y="247650"/>
                </a:cubicBezTo>
                <a:cubicBezTo>
                  <a:pt x="1945750" y="241966"/>
                  <a:pt x="2028435" y="241300"/>
                  <a:pt x="2110985" y="238125"/>
                </a:cubicBezTo>
                <a:cubicBezTo>
                  <a:pt x="2120510" y="234950"/>
                  <a:pt x="2133724" y="236770"/>
                  <a:pt x="2139560" y="228600"/>
                </a:cubicBezTo>
                <a:cubicBezTo>
                  <a:pt x="2151232" y="212260"/>
                  <a:pt x="2158610" y="171450"/>
                  <a:pt x="2158610" y="171450"/>
                </a:cubicBezTo>
                <a:cubicBezTo>
                  <a:pt x="2155435" y="149225"/>
                  <a:pt x="2158203" y="125291"/>
                  <a:pt x="2149085" y="104775"/>
                </a:cubicBezTo>
                <a:cubicBezTo>
                  <a:pt x="2144436" y="94314"/>
                  <a:pt x="2130971" y="90374"/>
                  <a:pt x="2120510" y="85725"/>
                </a:cubicBezTo>
                <a:cubicBezTo>
                  <a:pt x="2102160" y="77570"/>
                  <a:pt x="2063360" y="66675"/>
                  <a:pt x="2063360" y="66675"/>
                </a:cubicBezTo>
                <a:cubicBezTo>
                  <a:pt x="2050731" y="47731"/>
                  <a:pt x="2030174" y="33186"/>
                  <a:pt x="2053835" y="9525"/>
                </a:cubicBezTo>
                <a:cubicBezTo>
                  <a:pt x="2060935" y="2425"/>
                  <a:pt x="2072885" y="3175"/>
                  <a:pt x="2082410" y="0"/>
                </a:cubicBezTo>
                <a:cubicBezTo>
                  <a:pt x="2106981" y="3510"/>
                  <a:pt x="2151061" y="5750"/>
                  <a:pt x="2177660" y="19050"/>
                </a:cubicBezTo>
                <a:cubicBezTo>
                  <a:pt x="2251518" y="55979"/>
                  <a:pt x="2162986" y="23684"/>
                  <a:pt x="2234810" y="47625"/>
                </a:cubicBezTo>
                <a:cubicBezTo>
                  <a:pt x="2244335" y="57150"/>
                  <a:pt x="2251689" y="69517"/>
                  <a:pt x="2263385" y="76200"/>
                </a:cubicBezTo>
                <a:cubicBezTo>
                  <a:pt x="2282749" y="87265"/>
                  <a:pt x="2300471" y="85725"/>
                  <a:pt x="2320535" y="85725"/>
                </a:cubicBezTo>
              </a:path>
            </a:pathLst>
          </a:custGeom>
          <a:noFill/>
          <a:ln w="55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Documents and Settings\админ\Мои документы\Мои рисунки\2с\2с.jpg"/>
          <p:cNvPicPr/>
          <p:nvPr/>
        </p:nvPicPr>
        <p:blipFill>
          <a:blip r:embed="rId1"/>
          <a:srcRect l="12772" t="7094" r="4652" b="0"/>
          <a:stretch/>
        </p:blipFill>
        <p:spPr>
          <a:xfrm>
            <a:off x="385920" y="476280"/>
            <a:ext cx="8496000" cy="6099120"/>
          </a:xfrm>
          <a:prstGeom prst="rect">
            <a:avLst/>
          </a:prstGeom>
          <a:ln w="0">
            <a:noFill/>
          </a:ln>
        </p:spPr>
      </p:pic>
      <p:sp>
        <p:nvSpPr>
          <p:cNvPr id="387" name="Полилиния 2"/>
          <p:cNvSpPr/>
          <p:nvPr/>
        </p:nvSpPr>
        <p:spPr>
          <a:xfrm>
            <a:off x="1284120" y="1501920"/>
            <a:ext cx="3494160" cy="3843360"/>
          </a:xfrm>
          <a:custGeom>
            <a:avLst/>
            <a:gdLst/>
            <a:ahLst/>
            <a:rect l="l" t="t" r="r" b="b"/>
            <a:pathLst>
              <a:path w="3494315" h="3842657">
                <a:moveTo>
                  <a:pt x="0" y="3842657"/>
                </a:moveTo>
                <a:cubicBezTo>
                  <a:pt x="14514" y="3824514"/>
                  <a:pt x="32417" y="3808625"/>
                  <a:pt x="43543" y="3788228"/>
                </a:cubicBezTo>
                <a:cubicBezTo>
                  <a:pt x="54532" y="3768081"/>
                  <a:pt x="49088" y="3739142"/>
                  <a:pt x="65315" y="3722914"/>
                </a:cubicBezTo>
                <a:cubicBezTo>
                  <a:pt x="96337" y="3691891"/>
                  <a:pt x="81393" y="3709682"/>
                  <a:pt x="108857" y="3668485"/>
                </a:cubicBezTo>
                <a:cubicBezTo>
                  <a:pt x="105229" y="3653971"/>
                  <a:pt x="104663" y="3638323"/>
                  <a:pt x="97972" y="3624942"/>
                </a:cubicBezTo>
                <a:cubicBezTo>
                  <a:pt x="83339" y="3595676"/>
                  <a:pt x="47882" y="3608633"/>
                  <a:pt x="87086" y="3559628"/>
                </a:cubicBezTo>
                <a:cubicBezTo>
                  <a:pt x="94254" y="3550668"/>
                  <a:pt x="108857" y="3552371"/>
                  <a:pt x="119743" y="3548742"/>
                </a:cubicBezTo>
                <a:cubicBezTo>
                  <a:pt x="172321" y="3496167"/>
                  <a:pt x="105499" y="3560139"/>
                  <a:pt x="174172" y="3505200"/>
                </a:cubicBezTo>
                <a:cubicBezTo>
                  <a:pt x="182186" y="3498789"/>
                  <a:pt x="188686" y="3490685"/>
                  <a:pt x="195943" y="3483428"/>
                </a:cubicBezTo>
                <a:cubicBezTo>
                  <a:pt x="219314" y="3413317"/>
                  <a:pt x="212856" y="3446985"/>
                  <a:pt x="195943" y="3320142"/>
                </a:cubicBezTo>
                <a:cubicBezTo>
                  <a:pt x="193219" y="3299712"/>
                  <a:pt x="177399" y="3268941"/>
                  <a:pt x="163286" y="3254828"/>
                </a:cubicBezTo>
                <a:cubicBezTo>
                  <a:pt x="154035" y="3245577"/>
                  <a:pt x="141515" y="3240314"/>
                  <a:pt x="130629" y="3233057"/>
                </a:cubicBezTo>
                <a:cubicBezTo>
                  <a:pt x="134258" y="3222171"/>
                  <a:pt x="133401" y="3208514"/>
                  <a:pt x="141515" y="3200400"/>
                </a:cubicBezTo>
                <a:cubicBezTo>
                  <a:pt x="149629" y="3192286"/>
                  <a:pt x="163040" y="3192297"/>
                  <a:pt x="174172" y="3189514"/>
                </a:cubicBezTo>
                <a:lnTo>
                  <a:pt x="261257" y="3167742"/>
                </a:lnTo>
                <a:cubicBezTo>
                  <a:pt x="295798" y="3115932"/>
                  <a:pt x="274744" y="3155444"/>
                  <a:pt x="293915" y="3091542"/>
                </a:cubicBezTo>
                <a:cubicBezTo>
                  <a:pt x="300509" y="3069561"/>
                  <a:pt x="315686" y="3026228"/>
                  <a:pt x="315686" y="3026228"/>
                </a:cubicBezTo>
                <a:cubicBezTo>
                  <a:pt x="312057" y="3015342"/>
                  <a:pt x="311165" y="3003118"/>
                  <a:pt x="304800" y="2993571"/>
                </a:cubicBezTo>
                <a:cubicBezTo>
                  <a:pt x="250439" y="2912030"/>
                  <a:pt x="287141" y="3005907"/>
                  <a:pt x="261257" y="2928257"/>
                </a:cubicBezTo>
                <a:cubicBezTo>
                  <a:pt x="264886" y="2913743"/>
                  <a:pt x="265452" y="2898096"/>
                  <a:pt x="272143" y="2884714"/>
                </a:cubicBezTo>
                <a:cubicBezTo>
                  <a:pt x="289767" y="2849466"/>
                  <a:pt x="305425" y="2864676"/>
                  <a:pt x="337457" y="2873828"/>
                </a:cubicBezTo>
                <a:cubicBezTo>
                  <a:pt x="348490" y="2876980"/>
                  <a:pt x="359229" y="2881085"/>
                  <a:pt x="370115" y="2884714"/>
                </a:cubicBezTo>
                <a:cubicBezTo>
                  <a:pt x="447840" y="2858805"/>
                  <a:pt x="422699" y="2882037"/>
                  <a:pt x="457200" y="2830285"/>
                </a:cubicBezTo>
                <a:cubicBezTo>
                  <a:pt x="460829" y="2775857"/>
                  <a:pt x="454203" y="2719753"/>
                  <a:pt x="468086" y="2667000"/>
                </a:cubicBezTo>
                <a:cubicBezTo>
                  <a:pt x="480622" y="2619362"/>
                  <a:pt x="514025" y="2627702"/>
                  <a:pt x="544286" y="2612571"/>
                </a:cubicBezTo>
                <a:cubicBezTo>
                  <a:pt x="555988" y="2606720"/>
                  <a:pt x="564918" y="2595954"/>
                  <a:pt x="576943" y="2590800"/>
                </a:cubicBezTo>
                <a:cubicBezTo>
                  <a:pt x="590694" y="2584907"/>
                  <a:pt x="606156" y="2584213"/>
                  <a:pt x="620486" y="2579914"/>
                </a:cubicBezTo>
                <a:cubicBezTo>
                  <a:pt x="642467" y="2573319"/>
                  <a:pt x="664029" y="2565399"/>
                  <a:pt x="685800" y="2558142"/>
                </a:cubicBezTo>
                <a:lnTo>
                  <a:pt x="751115" y="2536371"/>
                </a:lnTo>
                <a:cubicBezTo>
                  <a:pt x="762001" y="2532742"/>
                  <a:pt x="774225" y="2531850"/>
                  <a:pt x="783772" y="2525485"/>
                </a:cubicBezTo>
                <a:lnTo>
                  <a:pt x="849086" y="2481942"/>
                </a:lnTo>
                <a:cubicBezTo>
                  <a:pt x="859972" y="2474685"/>
                  <a:pt x="872492" y="2469422"/>
                  <a:pt x="881743" y="2460171"/>
                </a:cubicBezTo>
                <a:lnTo>
                  <a:pt x="903515" y="2438400"/>
                </a:lnTo>
                <a:cubicBezTo>
                  <a:pt x="922674" y="2380919"/>
                  <a:pt x="908035" y="2415288"/>
                  <a:pt x="957943" y="2340428"/>
                </a:cubicBezTo>
                <a:lnTo>
                  <a:pt x="979715" y="2307771"/>
                </a:lnTo>
                <a:cubicBezTo>
                  <a:pt x="986972" y="2296885"/>
                  <a:pt x="992235" y="2284365"/>
                  <a:pt x="1001486" y="2275114"/>
                </a:cubicBezTo>
                <a:lnTo>
                  <a:pt x="1023257" y="2253342"/>
                </a:lnTo>
                <a:cubicBezTo>
                  <a:pt x="1026886" y="2242456"/>
                  <a:pt x="1032090" y="2231974"/>
                  <a:pt x="1034143" y="2220685"/>
                </a:cubicBezTo>
                <a:cubicBezTo>
                  <a:pt x="1039376" y="2191903"/>
                  <a:pt x="1041611" y="2162654"/>
                  <a:pt x="1045029" y="2133600"/>
                </a:cubicBezTo>
                <a:cubicBezTo>
                  <a:pt x="1052397" y="2070973"/>
                  <a:pt x="1049751" y="2026184"/>
                  <a:pt x="1077686" y="1970314"/>
                </a:cubicBezTo>
                <a:cubicBezTo>
                  <a:pt x="1084943" y="1955800"/>
                  <a:pt x="1087982" y="1938246"/>
                  <a:pt x="1099457" y="1926771"/>
                </a:cubicBezTo>
                <a:cubicBezTo>
                  <a:pt x="1107571" y="1918657"/>
                  <a:pt x="1121852" y="1921017"/>
                  <a:pt x="1132115" y="1915885"/>
                </a:cubicBezTo>
                <a:cubicBezTo>
                  <a:pt x="1143817" y="1910034"/>
                  <a:pt x="1154556" y="1902287"/>
                  <a:pt x="1164772" y="1894114"/>
                </a:cubicBezTo>
                <a:cubicBezTo>
                  <a:pt x="1190814" y="1873280"/>
                  <a:pt x="1181102" y="1865467"/>
                  <a:pt x="1219200" y="1861457"/>
                </a:cubicBezTo>
                <a:cubicBezTo>
                  <a:pt x="1277051" y="1855368"/>
                  <a:pt x="1335315" y="1854200"/>
                  <a:pt x="1393372" y="1850571"/>
                </a:cubicBezTo>
                <a:cubicBezTo>
                  <a:pt x="1404379" y="1834061"/>
                  <a:pt x="1426029" y="1807790"/>
                  <a:pt x="1426029" y="1785257"/>
                </a:cubicBezTo>
                <a:cubicBezTo>
                  <a:pt x="1426029" y="1770296"/>
                  <a:pt x="1426502" y="1751451"/>
                  <a:pt x="1415143" y="1741714"/>
                </a:cubicBezTo>
                <a:cubicBezTo>
                  <a:pt x="1404227" y="1732357"/>
                  <a:pt x="1327377" y="1714329"/>
                  <a:pt x="1306286" y="1709057"/>
                </a:cubicBezTo>
                <a:cubicBezTo>
                  <a:pt x="1309915" y="1690914"/>
                  <a:pt x="1312685" y="1672578"/>
                  <a:pt x="1317172" y="1654628"/>
                </a:cubicBezTo>
                <a:cubicBezTo>
                  <a:pt x="1319955" y="1643496"/>
                  <a:pt x="1328057" y="1633445"/>
                  <a:pt x="1328057" y="1621971"/>
                </a:cubicBezTo>
                <a:cubicBezTo>
                  <a:pt x="1328057" y="1610497"/>
                  <a:pt x="1328058" y="1592943"/>
                  <a:pt x="1317172" y="1589314"/>
                </a:cubicBezTo>
                <a:cubicBezTo>
                  <a:pt x="1279150" y="1576640"/>
                  <a:pt x="1237343" y="1582057"/>
                  <a:pt x="1197429" y="1578428"/>
                </a:cubicBezTo>
                <a:cubicBezTo>
                  <a:pt x="1175969" y="1514051"/>
                  <a:pt x="1162990" y="1507570"/>
                  <a:pt x="1186543" y="1436914"/>
                </a:cubicBezTo>
                <a:cubicBezTo>
                  <a:pt x="1189789" y="1427177"/>
                  <a:pt x="1199135" y="1419732"/>
                  <a:pt x="1208315" y="1415142"/>
                </a:cubicBezTo>
                <a:cubicBezTo>
                  <a:pt x="1264701" y="1386949"/>
                  <a:pt x="1236351" y="1420129"/>
                  <a:pt x="1284515" y="1393371"/>
                </a:cubicBezTo>
                <a:cubicBezTo>
                  <a:pt x="1307388" y="1380664"/>
                  <a:pt x="1325006" y="1358103"/>
                  <a:pt x="1349829" y="1349828"/>
                </a:cubicBezTo>
                <a:cubicBezTo>
                  <a:pt x="1360715" y="1346199"/>
                  <a:pt x="1372223" y="1344074"/>
                  <a:pt x="1382486" y="1338942"/>
                </a:cubicBezTo>
                <a:cubicBezTo>
                  <a:pt x="1394188" y="1333091"/>
                  <a:pt x="1402451" y="1320344"/>
                  <a:pt x="1415143" y="1317171"/>
                </a:cubicBezTo>
                <a:cubicBezTo>
                  <a:pt x="1447020" y="1309202"/>
                  <a:pt x="1480545" y="1310628"/>
                  <a:pt x="1513115" y="1306285"/>
                </a:cubicBezTo>
                <a:cubicBezTo>
                  <a:pt x="1534993" y="1303368"/>
                  <a:pt x="1556658" y="1299028"/>
                  <a:pt x="1578429" y="1295400"/>
                </a:cubicBezTo>
                <a:cubicBezTo>
                  <a:pt x="1600200" y="1288143"/>
                  <a:pt x="1627515" y="1289855"/>
                  <a:pt x="1643743" y="1273628"/>
                </a:cubicBezTo>
                <a:lnTo>
                  <a:pt x="1698172" y="1219200"/>
                </a:lnTo>
                <a:cubicBezTo>
                  <a:pt x="1723963" y="1193409"/>
                  <a:pt x="1748325" y="1166194"/>
                  <a:pt x="1785257" y="1153885"/>
                </a:cubicBezTo>
                <a:lnTo>
                  <a:pt x="1817915" y="1143000"/>
                </a:lnTo>
                <a:cubicBezTo>
                  <a:pt x="1828801" y="1135743"/>
                  <a:pt x="1838870" y="1127079"/>
                  <a:pt x="1850572" y="1121228"/>
                </a:cubicBezTo>
                <a:cubicBezTo>
                  <a:pt x="1880972" y="1106028"/>
                  <a:pt x="1931345" y="1103469"/>
                  <a:pt x="1959429" y="1099457"/>
                </a:cubicBezTo>
                <a:cubicBezTo>
                  <a:pt x="1981200" y="1092200"/>
                  <a:pt x="2008515" y="1093912"/>
                  <a:pt x="2024743" y="1077685"/>
                </a:cubicBezTo>
                <a:cubicBezTo>
                  <a:pt x="2032000" y="1070428"/>
                  <a:pt x="2037714" y="1061194"/>
                  <a:pt x="2046515" y="1055914"/>
                </a:cubicBezTo>
                <a:cubicBezTo>
                  <a:pt x="2056354" y="1050010"/>
                  <a:pt x="2068909" y="1050160"/>
                  <a:pt x="2079172" y="1045028"/>
                </a:cubicBezTo>
                <a:cubicBezTo>
                  <a:pt x="2090874" y="1039177"/>
                  <a:pt x="2100943" y="1030514"/>
                  <a:pt x="2111829" y="1023257"/>
                </a:cubicBezTo>
                <a:cubicBezTo>
                  <a:pt x="2115458" y="1012371"/>
                  <a:pt x="2115547" y="999560"/>
                  <a:pt x="2122715" y="990600"/>
                </a:cubicBezTo>
                <a:cubicBezTo>
                  <a:pt x="2130888" y="980384"/>
                  <a:pt x="2143417" y="974142"/>
                  <a:pt x="2155372" y="968828"/>
                </a:cubicBezTo>
                <a:cubicBezTo>
                  <a:pt x="2175032" y="960090"/>
                  <a:pt x="2237438" y="941042"/>
                  <a:pt x="2264229" y="936171"/>
                </a:cubicBezTo>
                <a:cubicBezTo>
                  <a:pt x="2289473" y="931581"/>
                  <a:pt x="2315029" y="928914"/>
                  <a:pt x="2340429" y="925285"/>
                </a:cubicBezTo>
                <a:cubicBezTo>
                  <a:pt x="2351315" y="918028"/>
                  <a:pt x="2361131" y="908827"/>
                  <a:pt x="2373086" y="903514"/>
                </a:cubicBezTo>
                <a:cubicBezTo>
                  <a:pt x="2447003" y="870662"/>
                  <a:pt x="2478071" y="878436"/>
                  <a:pt x="2569029" y="870857"/>
                </a:cubicBezTo>
                <a:cubicBezTo>
                  <a:pt x="2565400" y="845457"/>
                  <a:pt x="2558143" y="820315"/>
                  <a:pt x="2558143" y="794657"/>
                </a:cubicBezTo>
                <a:cubicBezTo>
                  <a:pt x="2558143" y="783182"/>
                  <a:pt x="2559692" y="768669"/>
                  <a:pt x="2569029" y="762000"/>
                </a:cubicBezTo>
                <a:cubicBezTo>
                  <a:pt x="2587703" y="748661"/>
                  <a:pt x="2612572" y="747485"/>
                  <a:pt x="2634343" y="740228"/>
                </a:cubicBezTo>
                <a:lnTo>
                  <a:pt x="2667000" y="729342"/>
                </a:lnTo>
                <a:lnTo>
                  <a:pt x="2699657" y="718457"/>
                </a:lnTo>
                <a:cubicBezTo>
                  <a:pt x="2711289" y="706825"/>
                  <a:pt x="2740453" y="680507"/>
                  <a:pt x="2743200" y="664028"/>
                </a:cubicBezTo>
                <a:cubicBezTo>
                  <a:pt x="2745086" y="652710"/>
                  <a:pt x="2741275" y="638539"/>
                  <a:pt x="2732315" y="631371"/>
                </a:cubicBezTo>
                <a:cubicBezTo>
                  <a:pt x="2720632" y="622025"/>
                  <a:pt x="2703286" y="624114"/>
                  <a:pt x="2688772" y="620485"/>
                </a:cubicBezTo>
                <a:cubicBezTo>
                  <a:pt x="2685143" y="609599"/>
                  <a:pt x="2676000" y="599146"/>
                  <a:pt x="2677886" y="587828"/>
                </a:cubicBezTo>
                <a:cubicBezTo>
                  <a:pt x="2680633" y="571348"/>
                  <a:pt x="2709796" y="545033"/>
                  <a:pt x="2721429" y="533400"/>
                </a:cubicBezTo>
                <a:cubicBezTo>
                  <a:pt x="2742622" y="469821"/>
                  <a:pt x="2715733" y="528210"/>
                  <a:pt x="2764972" y="478971"/>
                </a:cubicBezTo>
                <a:cubicBezTo>
                  <a:pt x="2814211" y="429732"/>
                  <a:pt x="2755823" y="456621"/>
                  <a:pt x="2819400" y="435428"/>
                </a:cubicBezTo>
                <a:cubicBezTo>
                  <a:pt x="2854373" y="400457"/>
                  <a:pt x="2827394" y="419967"/>
                  <a:pt x="2884715" y="402771"/>
                </a:cubicBezTo>
                <a:cubicBezTo>
                  <a:pt x="2884750" y="402761"/>
                  <a:pt x="2966340" y="375563"/>
                  <a:pt x="2982686" y="370114"/>
                </a:cubicBezTo>
                <a:cubicBezTo>
                  <a:pt x="2993572" y="366485"/>
                  <a:pt x="3003925" y="360370"/>
                  <a:pt x="3015343" y="359228"/>
                </a:cubicBezTo>
                <a:lnTo>
                  <a:pt x="3124200" y="348342"/>
                </a:lnTo>
                <a:cubicBezTo>
                  <a:pt x="3131457" y="341085"/>
                  <a:pt x="3139561" y="334585"/>
                  <a:pt x="3145972" y="326571"/>
                </a:cubicBezTo>
                <a:cubicBezTo>
                  <a:pt x="3159665" y="309455"/>
                  <a:pt x="3169296" y="284273"/>
                  <a:pt x="3189515" y="272142"/>
                </a:cubicBezTo>
                <a:cubicBezTo>
                  <a:pt x="3199354" y="266239"/>
                  <a:pt x="3211286" y="264885"/>
                  <a:pt x="3222172" y="261257"/>
                </a:cubicBezTo>
                <a:cubicBezTo>
                  <a:pt x="3218543" y="243114"/>
                  <a:pt x="3223131" y="221042"/>
                  <a:pt x="3211286" y="206828"/>
                </a:cubicBezTo>
                <a:cubicBezTo>
                  <a:pt x="3201708" y="195335"/>
                  <a:pt x="3179426" y="205288"/>
                  <a:pt x="3167743" y="195942"/>
                </a:cubicBezTo>
                <a:cubicBezTo>
                  <a:pt x="3158783" y="188774"/>
                  <a:pt x="3160486" y="174171"/>
                  <a:pt x="3156857" y="163285"/>
                </a:cubicBezTo>
                <a:cubicBezTo>
                  <a:pt x="3167743" y="159657"/>
                  <a:pt x="3179252" y="157532"/>
                  <a:pt x="3189515" y="152400"/>
                </a:cubicBezTo>
                <a:cubicBezTo>
                  <a:pt x="3201217" y="146549"/>
                  <a:pt x="3209249" y="132669"/>
                  <a:pt x="3222172" y="130628"/>
                </a:cubicBezTo>
                <a:cubicBezTo>
                  <a:pt x="3279630" y="121555"/>
                  <a:pt x="3338286" y="123371"/>
                  <a:pt x="3396343" y="119742"/>
                </a:cubicBezTo>
                <a:cubicBezTo>
                  <a:pt x="3399972" y="108856"/>
                  <a:pt x="3400061" y="96045"/>
                  <a:pt x="3407229" y="87085"/>
                </a:cubicBezTo>
                <a:cubicBezTo>
                  <a:pt x="3422576" y="67902"/>
                  <a:pt x="3451031" y="61599"/>
                  <a:pt x="3472543" y="54428"/>
                </a:cubicBezTo>
                <a:cubicBezTo>
                  <a:pt x="3485995" y="14074"/>
                  <a:pt x="3478297" y="32034"/>
                  <a:pt x="3494315" y="0"/>
                </a:cubicBezTo>
              </a:path>
            </a:pathLst>
          </a:custGeom>
          <a:noFill/>
          <a:ln w="55080">
            <a:solidFill>
              <a:srgbClr val="da1f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олилиния 3"/>
          <p:cNvSpPr/>
          <p:nvPr/>
        </p:nvSpPr>
        <p:spPr>
          <a:xfrm>
            <a:off x="4419720" y="642960"/>
            <a:ext cx="1752480" cy="5518080"/>
          </a:xfrm>
          <a:custGeom>
            <a:avLst/>
            <a:gdLst/>
            <a:ahLst/>
            <a:rect l="l" t="t" r="r" b="b"/>
            <a:pathLst>
              <a:path w="1752729" h="5519057">
                <a:moveTo>
                  <a:pt x="1698298" y="5519057"/>
                </a:moveTo>
                <a:cubicBezTo>
                  <a:pt x="1712089" y="5501818"/>
                  <a:pt x="1752727" y="5463879"/>
                  <a:pt x="1752727" y="5431972"/>
                </a:cubicBezTo>
                <a:cubicBezTo>
                  <a:pt x="1752727" y="5417011"/>
                  <a:pt x="1753200" y="5398166"/>
                  <a:pt x="1741841" y="5388429"/>
                </a:cubicBezTo>
                <a:cubicBezTo>
                  <a:pt x="1724417" y="5373494"/>
                  <a:pt x="1676527" y="5366657"/>
                  <a:pt x="1676527" y="5366657"/>
                </a:cubicBezTo>
                <a:cubicBezTo>
                  <a:pt x="1672898" y="5355771"/>
                  <a:pt x="1667891" y="5345252"/>
                  <a:pt x="1665641" y="5334000"/>
                </a:cubicBezTo>
                <a:cubicBezTo>
                  <a:pt x="1640625" y="5208916"/>
                  <a:pt x="1668464" y="5298923"/>
                  <a:pt x="1643870" y="5225143"/>
                </a:cubicBezTo>
                <a:cubicBezTo>
                  <a:pt x="1640241" y="5185229"/>
                  <a:pt x="1643995" y="5143937"/>
                  <a:pt x="1632984" y="5105400"/>
                </a:cubicBezTo>
                <a:cubicBezTo>
                  <a:pt x="1628755" y="5090598"/>
                  <a:pt x="1610182" y="5084570"/>
                  <a:pt x="1600327" y="5072743"/>
                </a:cubicBezTo>
                <a:cubicBezTo>
                  <a:pt x="1591952" y="5062692"/>
                  <a:pt x="1585813" y="5050972"/>
                  <a:pt x="1578556" y="5040086"/>
                </a:cubicBezTo>
                <a:cubicBezTo>
                  <a:pt x="1574927" y="5025572"/>
                  <a:pt x="1570916" y="5011148"/>
                  <a:pt x="1567670" y="4996543"/>
                </a:cubicBezTo>
                <a:cubicBezTo>
                  <a:pt x="1563656" y="4978481"/>
                  <a:pt x="1563281" y="4959438"/>
                  <a:pt x="1556784" y="4942114"/>
                </a:cubicBezTo>
                <a:cubicBezTo>
                  <a:pt x="1551194" y="4927208"/>
                  <a:pt x="1527104" y="4898083"/>
                  <a:pt x="1513241" y="4887686"/>
                </a:cubicBezTo>
                <a:cubicBezTo>
                  <a:pt x="1448438" y="4839084"/>
                  <a:pt x="1465902" y="4848637"/>
                  <a:pt x="1404384" y="4833257"/>
                </a:cubicBezTo>
                <a:cubicBezTo>
                  <a:pt x="1393498" y="4826000"/>
                  <a:pt x="1379900" y="4821702"/>
                  <a:pt x="1371727" y="4811486"/>
                </a:cubicBezTo>
                <a:cubicBezTo>
                  <a:pt x="1364559" y="4802526"/>
                  <a:pt x="1362264" y="4790215"/>
                  <a:pt x="1360841" y="4778829"/>
                </a:cubicBezTo>
                <a:cubicBezTo>
                  <a:pt x="1354973" y="4731883"/>
                  <a:pt x="1353584" y="4684486"/>
                  <a:pt x="1349956" y="4637314"/>
                </a:cubicBezTo>
                <a:cubicBezTo>
                  <a:pt x="1374895" y="4487671"/>
                  <a:pt x="1339483" y="4622112"/>
                  <a:pt x="1382613" y="4550229"/>
                </a:cubicBezTo>
                <a:cubicBezTo>
                  <a:pt x="1388517" y="4540390"/>
                  <a:pt x="1390346" y="4528605"/>
                  <a:pt x="1393498" y="4517572"/>
                </a:cubicBezTo>
                <a:cubicBezTo>
                  <a:pt x="1408164" y="4466242"/>
                  <a:pt x="1406459" y="4459506"/>
                  <a:pt x="1415270" y="4397829"/>
                </a:cubicBezTo>
                <a:cubicBezTo>
                  <a:pt x="1411641" y="4361543"/>
                  <a:pt x="1412584" y="4324505"/>
                  <a:pt x="1404384" y="4288972"/>
                </a:cubicBezTo>
                <a:cubicBezTo>
                  <a:pt x="1398950" y="4265423"/>
                  <a:pt x="1374583" y="4251721"/>
                  <a:pt x="1360841" y="4234543"/>
                </a:cubicBezTo>
                <a:cubicBezTo>
                  <a:pt x="1352668" y="4224327"/>
                  <a:pt x="1347243" y="4212102"/>
                  <a:pt x="1339070" y="4201886"/>
                </a:cubicBezTo>
                <a:cubicBezTo>
                  <a:pt x="1332659" y="4193872"/>
                  <a:pt x="1323709" y="4188128"/>
                  <a:pt x="1317298" y="4180114"/>
                </a:cubicBezTo>
                <a:cubicBezTo>
                  <a:pt x="1293182" y="4149969"/>
                  <a:pt x="1296139" y="4149292"/>
                  <a:pt x="1284641" y="4114800"/>
                </a:cubicBezTo>
                <a:cubicBezTo>
                  <a:pt x="1359693" y="4089784"/>
                  <a:pt x="1333729" y="4109257"/>
                  <a:pt x="1371727" y="4071257"/>
                </a:cubicBezTo>
                <a:cubicBezTo>
                  <a:pt x="1360870" y="4038687"/>
                  <a:pt x="1359851" y="4003172"/>
                  <a:pt x="1328184" y="3984172"/>
                </a:cubicBezTo>
                <a:cubicBezTo>
                  <a:pt x="1318345" y="3978268"/>
                  <a:pt x="1306886" y="3974909"/>
                  <a:pt x="1295527" y="3973286"/>
                </a:cubicBezTo>
                <a:cubicBezTo>
                  <a:pt x="1255851" y="3967618"/>
                  <a:pt x="1215698" y="3966029"/>
                  <a:pt x="1175784" y="3962400"/>
                </a:cubicBezTo>
                <a:cubicBezTo>
                  <a:pt x="1179413" y="3944257"/>
                  <a:pt x="1186670" y="3926474"/>
                  <a:pt x="1186670" y="3907972"/>
                </a:cubicBezTo>
                <a:cubicBezTo>
                  <a:pt x="1186670" y="3869501"/>
                  <a:pt x="1163396" y="3866895"/>
                  <a:pt x="1132241" y="3853543"/>
                </a:cubicBezTo>
                <a:cubicBezTo>
                  <a:pt x="1121694" y="3849023"/>
                  <a:pt x="1110470" y="3846286"/>
                  <a:pt x="1099584" y="3842657"/>
                </a:cubicBezTo>
                <a:cubicBezTo>
                  <a:pt x="1092327" y="3831771"/>
                  <a:pt x="1082967" y="3822025"/>
                  <a:pt x="1077813" y="3810000"/>
                </a:cubicBezTo>
                <a:cubicBezTo>
                  <a:pt x="1066889" y="3784511"/>
                  <a:pt x="1072484" y="3752019"/>
                  <a:pt x="1045156" y="3733800"/>
                </a:cubicBezTo>
                <a:cubicBezTo>
                  <a:pt x="1038385" y="3729286"/>
                  <a:pt x="948609" y="3712418"/>
                  <a:pt x="947184" y="3712029"/>
                </a:cubicBezTo>
                <a:cubicBezTo>
                  <a:pt x="925044" y="3705991"/>
                  <a:pt x="903641" y="3697514"/>
                  <a:pt x="881870" y="3690257"/>
                </a:cubicBezTo>
                <a:lnTo>
                  <a:pt x="849213" y="3679372"/>
                </a:lnTo>
                <a:cubicBezTo>
                  <a:pt x="838327" y="3672115"/>
                  <a:pt x="826489" y="3666114"/>
                  <a:pt x="816556" y="3657600"/>
                </a:cubicBezTo>
                <a:cubicBezTo>
                  <a:pt x="800971" y="3644242"/>
                  <a:pt x="773013" y="3614057"/>
                  <a:pt x="773013" y="3614057"/>
                </a:cubicBezTo>
                <a:cubicBezTo>
                  <a:pt x="814080" y="3600369"/>
                  <a:pt x="833552" y="3597061"/>
                  <a:pt x="870984" y="3559629"/>
                </a:cubicBezTo>
                <a:cubicBezTo>
                  <a:pt x="878241" y="3552372"/>
                  <a:pt x="883146" y="3541461"/>
                  <a:pt x="892756" y="3537857"/>
                </a:cubicBezTo>
                <a:cubicBezTo>
                  <a:pt x="913422" y="3530107"/>
                  <a:pt x="936299" y="3530600"/>
                  <a:pt x="958070" y="3526972"/>
                </a:cubicBezTo>
                <a:cubicBezTo>
                  <a:pt x="962676" y="3522366"/>
                  <a:pt x="1004857" y="3486673"/>
                  <a:pt x="990727" y="3472543"/>
                </a:cubicBezTo>
                <a:cubicBezTo>
                  <a:pt x="974500" y="3456316"/>
                  <a:pt x="925413" y="3450772"/>
                  <a:pt x="925413" y="3450772"/>
                </a:cubicBezTo>
                <a:cubicBezTo>
                  <a:pt x="860274" y="3407345"/>
                  <a:pt x="916440" y="3456508"/>
                  <a:pt x="881870" y="3352800"/>
                </a:cubicBezTo>
                <a:cubicBezTo>
                  <a:pt x="878624" y="3343064"/>
                  <a:pt x="868899" y="3336309"/>
                  <a:pt x="860098" y="3331029"/>
                </a:cubicBezTo>
                <a:cubicBezTo>
                  <a:pt x="839483" y="3318660"/>
                  <a:pt x="775320" y="3311456"/>
                  <a:pt x="762127" y="3309257"/>
                </a:cubicBezTo>
                <a:cubicBezTo>
                  <a:pt x="788228" y="3230956"/>
                  <a:pt x="748212" y="3320390"/>
                  <a:pt x="816556" y="3265714"/>
                </a:cubicBezTo>
                <a:cubicBezTo>
                  <a:pt x="825516" y="3258546"/>
                  <a:pt x="819327" y="3241171"/>
                  <a:pt x="827441" y="3233057"/>
                </a:cubicBezTo>
                <a:cubicBezTo>
                  <a:pt x="835555" y="3224943"/>
                  <a:pt x="848846" y="3224422"/>
                  <a:pt x="860098" y="3222172"/>
                </a:cubicBezTo>
                <a:cubicBezTo>
                  <a:pt x="885258" y="3217140"/>
                  <a:pt x="910898" y="3214915"/>
                  <a:pt x="936298" y="3211286"/>
                </a:cubicBezTo>
                <a:cubicBezTo>
                  <a:pt x="925762" y="3179676"/>
                  <a:pt x="926663" y="3172831"/>
                  <a:pt x="903641" y="3145972"/>
                </a:cubicBezTo>
                <a:cubicBezTo>
                  <a:pt x="890283" y="3130387"/>
                  <a:pt x="880418" y="3105332"/>
                  <a:pt x="860098" y="3102429"/>
                </a:cubicBezTo>
                <a:lnTo>
                  <a:pt x="783898" y="3091543"/>
                </a:lnTo>
                <a:cubicBezTo>
                  <a:pt x="780270" y="3077029"/>
                  <a:pt x="787447" y="3051937"/>
                  <a:pt x="773013" y="3048000"/>
                </a:cubicBezTo>
                <a:cubicBezTo>
                  <a:pt x="737831" y="3038405"/>
                  <a:pt x="699534" y="3050042"/>
                  <a:pt x="664156" y="3058886"/>
                </a:cubicBezTo>
                <a:cubicBezTo>
                  <a:pt x="654199" y="3061375"/>
                  <a:pt x="633204" y="3076067"/>
                  <a:pt x="642384" y="3080657"/>
                </a:cubicBezTo>
                <a:cubicBezTo>
                  <a:pt x="655765" y="3087348"/>
                  <a:pt x="671413" y="3073400"/>
                  <a:pt x="685927" y="3069772"/>
                </a:cubicBezTo>
                <a:cubicBezTo>
                  <a:pt x="682298" y="3051629"/>
                  <a:pt x="686400" y="3029948"/>
                  <a:pt x="675041" y="3015343"/>
                </a:cubicBezTo>
                <a:cubicBezTo>
                  <a:pt x="658977" y="2994689"/>
                  <a:pt x="609727" y="2971800"/>
                  <a:pt x="609727" y="2971800"/>
                </a:cubicBezTo>
                <a:cubicBezTo>
                  <a:pt x="616984" y="2950029"/>
                  <a:pt x="618159" y="2925160"/>
                  <a:pt x="631498" y="2906486"/>
                </a:cubicBezTo>
                <a:cubicBezTo>
                  <a:pt x="638168" y="2897149"/>
                  <a:pt x="653893" y="2900732"/>
                  <a:pt x="664156" y="2895600"/>
                </a:cubicBezTo>
                <a:cubicBezTo>
                  <a:pt x="675858" y="2889749"/>
                  <a:pt x="685927" y="2881086"/>
                  <a:pt x="696813" y="2873829"/>
                </a:cubicBezTo>
                <a:cubicBezTo>
                  <a:pt x="700441" y="2852057"/>
                  <a:pt x="699948" y="2829181"/>
                  <a:pt x="707698" y="2808514"/>
                </a:cubicBezTo>
                <a:cubicBezTo>
                  <a:pt x="711302" y="2798904"/>
                  <a:pt x="729470" y="2797006"/>
                  <a:pt x="729470" y="2786743"/>
                </a:cubicBezTo>
                <a:cubicBezTo>
                  <a:pt x="729470" y="2773660"/>
                  <a:pt x="719653" y="2759400"/>
                  <a:pt x="707698" y="2754086"/>
                </a:cubicBezTo>
                <a:cubicBezTo>
                  <a:pt x="684252" y="2743665"/>
                  <a:pt x="656858" y="2747102"/>
                  <a:pt x="631498" y="2743200"/>
                </a:cubicBezTo>
                <a:cubicBezTo>
                  <a:pt x="609683" y="2739844"/>
                  <a:pt x="587955" y="2735943"/>
                  <a:pt x="566184" y="2732314"/>
                </a:cubicBezTo>
                <a:cubicBezTo>
                  <a:pt x="558927" y="2721428"/>
                  <a:pt x="546564" y="2712562"/>
                  <a:pt x="544413" y="2699657"/>
                </a:cubicBezTo>
                <a:cubicBezTo>
                  <a:pt x="542527" y="2688339"/>
                  <a:pt x="549726" y="2677030"/>
                  <a:pt x="555298" y="2667000"/>
                </a:cubicBezTo>
                <a:cubicBezTo>
                  <a:pt x="591196" y="2602384"/>
                  <a:pt x="580162" y="2605468"/>
                  <a:pt x="631498" y="2590800"/>
                </a:cubicBezTo>
                <a:cubicBezTo>
                  <a:pt x="645883" y="2586690"/>
                  <a:pt x="660527" y="2583543"/>
                  <a:pt x="675041" y="2579914"/>
                </a:cubicBezTo>
                <a:cubicBezTo>
                  <a:pt x="689890" y="2535367"/>
                  <a:pt x="700832" y="2518200"/>
                  <a:pt x="675041" y="2460172"/>
                </a:cubicBezTo>
                <a:cubicBezTo>
                  <a:pt x="670381" y="2449686"/>
                  <a:pt x="653270" y="2452915"/>
                  <a:pt x="642384" y="2449286"/>
                </a:cubicBezTo>
                <a:cubicBezTo>
                  <a:pt x="672658" y="2328194"/>
                  <a:pt x="620173" y="2482382"/>
                  <a:pt x="707698" y="2394857"/>
                </a:cubicBezTo>
                <a:cubicBezTo>
                  <a:pt x="720781" y="2381774"/>
                  <a:pt x="711296" y="2357435"/>
                  <a:pt x="718584" y="2340429"/>
                </a:cubicBezTo>
                <a:cubicBezTo>
                  <a:pt x="722627" y="2330995"/>
                  <a:pt x="733099" y="2325914"/>
                  <a:pt x="740356" y="2318657"/>
                </a:cubicBezTo>
                <a:cubicBezTo>
                  <a:pt x="733099" y="2307771"/>
                  <a:pt x="727835" y="2295251"/>
                  <a:pt x="718584" y="2286000"/>
                </a:cubicBezTo>
                <a:cubicBezTo>
                  <a:pt x="693526" y="2260942"/>
                  <a:pt x="675694" y="2261671"/>
                  <a:pt x="642384" y="2253343"/>
                </a:cubicBezTo>
                <a:cubicBezTo>
                  <a:pt x="638755" y="2220686"/>
                  <a:pt x="628523" y="2188095"/>
                  <a:pt x="631498" y="2155372"/>
                </a:cubicBezTo>
                <a:cubicBezTo>
                  <a:pt x="632427" y="2145151"/>
                  <a:pt x="643368" y="2136301"/>
                  <a:pt x="653270" y="2133600"/>
                </a:cubicBezTo>
                <a:cubicBezTo>
                  <a:pt x="684970" y="2124954"/>
                  <a:pt x="718584" y="2126343"/>
                  <a:pt x="751241" y="2122714"/>
                </a:cubicBezTo>
                <a:cubicBezTo>
                  <a:pt x="758498" y="2115457"/>
                  <a:pt x="767733" y="2109744"/>
                  <a:pt x="773013" y="2100943"/>
                </a:cubicBezTo>
                <a:cubicBezTo>
                  <a:pt x="778917" y="2091104"/>
                  <a:pt x="786148" y="2079538"/>
                  <a:pt x="783898" y="2068286"/>
                </a:cubicBezTo>
                <a:cubicBezTo>
                  <a:pt x="779628" y="2046938"/>
                  <a:pt x="743226" y="2040214"/>
                  <a:pt x="729470" y="2035629"/>
                </a:cubicBezTo>
                <a:cubicBezTo>
                  <a:pt x="665790" y="1971949"/>
                  <a:pt x="696390" y="1995432"/>
                  <a:pt x="642384" y="1959429"/>
                </a:cubicBezTo>
                <a:cubicBezTo>
                  <a:pt x="638755" y="1948543"/>
                  <a:pt x="633014" y="1938146"/>
                  <a:pt x="631498" y="1926772"/>
                </a:cubicBezTo>
                <a:cubicBezTo>
                  <a:pt x="625723" y="1883461"/>
                  <a:pt x="633646" y="1837848"/>
                  <a:pt x="620613" y="1796143"/>
                </a:cubicBezTo>
                <a:cubicBezTo>
                  <a:pt x="615653" y="1780271"/>
                  <a:pt x="563661" y="1740453"/>
                  <a:pt x="544413" y="1730829"/>
                </a:cubicBezTo>
                <a:cubicBezTo>
                  <a:pt x="534150" y="1725697"/>
                  <a:pt x="522019" y="1725075"/>
                  <a:pt x="511756" y="1719943"/>
                </a:cubicBezTo>
                <a:cubicBezTo>
                  <a:pt x="500054" y="1714092"/>
                  <a:pt x="489984" y="1705429"/>
                  <a:pt x="479098" y="1698172"/>
                </a:cubicBezTo>
                <a:cubicBezTo>
                  <a:pt x="471841" y="1687286"/>
                  <a:pt x="462640" y="1677470"/>
                  <a:pt x="457327" y="1665514"/>
                </a:cubicBezTo>
                <a:cubicBezTo>
                  <a:pt x="448007" y="1644543"/>
                  <a:pt x="435556" y="1600200"/>
                  <a:pt x="435556" y="1600200"/>
                </a:cubicBezTo>
                <a:cubicBezTo>
                  <a:pt x="431927" y="1567543"/>
                  <a:pt x="430072" y="1534640"/>
                  <a:pt x="424670" y="1502229"/>
                </a:cubicBezTo>
                <a:cubicBezTo>
                  <a:pt x="422784" y="1490911"/>
                  <a:pt x="423121" y="1476241"/>
                  <a:pt x="413784" y="1469572"/>
                </a:cubicBezTo>
                <a:cubicBezTo>
                  <a:pt x="395110" y="1456233"/>
                  <a:pt x="370241" y="1455057"/>
                  <a:pt x="348470" y="1447800"/>
                </a:cubicBezTo>
                <a:lnTo>
                  <a:pt x="315813" y="1436914"/>
                </a:lnTo>
                <a:cubicBezTo>
                  <a:pt x="308556" y="1429657"/>
                  <a:pt x="302842" y="1420423"/>
                  <a:pt x="294041" y="1415143"/>
                </a:cubicBezTo>
                <a:cubicBezTo>
                  <a:pt x="284202" y="1409239"/>
                  <a:pt x="269498" y="1412371"/>
                  <a:pt x="261384" y="1404257"/>
                </a:cubicBezTo>
                <a:cubicBezTo>
                  <a:pt x="253270" y="1396143"/>
                  <a:pt x="254127" y="1382486"/>
                  <a:pt x="250498" y="1371600"/>
                </a:cubicBezTo>
                <a:cubicBezTo>
                  <a:pt x="257670" y="1350086"/>
                  <a:pt x="263971" y="1321634"/>
                  <a:pt x="283156" y="1306286"/>
                </a:cubicBezTo>
                <a:cubicBezTo>
                  <a:pt x="290255" y="1300607"/>
                  <a:pt x="356511" y="1285225"/>
                  <a:pt x="359356" y="1284514"/>
                </a:cubicBezTo>
                <a:cubicBezTo>
                  <a:pt x="370363" y="1268004"/>
                  <a:pt x="392013" y="1241733"/>
                  <a:pt x="392013" y="1219200"/>
                </a:cubicBezTo>
                <a:cubicBezTo>
                  <a:pt x="392013" y="1163624"/>
                  <a:pt x="388865" y="1147229"/>
                  <a:pt x="359356" y="1110343"/>
                </a:cubicBezTo>
                <a:cubicBezTo>
                  <a:pt x="352945" y="1102329"/>
                  <a:pt x="344841" y="1095829"/>
                  <a:pt x="337584" y="1088572"/>
                </a:cubicBezTo>
                <a:lnTo>
                  <a:pt x="315813" y="1001486"/>
                </a:lnTo>
                <a:lnTo>
                  <a:pt x="304927" y="957943"/>
                </a:lnTo>
                <a:cubicBezTo>
                  <a:pt x="308556" y="910772"/>
                  <a:pt x="315813" y="863740"/>
                  <a:pt x="315813" y="816429"/>
                </a:cubicBezTo>
                <a:cubicBezTo>
                  <a:pt x="315813" y="804954"/>
                  <a:pt x="315813" y="787401"/>
                  <a:pt x="304927" y="783772"/>
                </a:cubicBezTo>
                <a:cubicBezTo>
                  <a:pt x="287374" y="777921"/>
                  <a:pt x="268641" y="791029"/>
                  <a:pt x="250498" y="794657"/>
                </a:cubicBezTo>
                <a:cubicBezTo>
                  <a:pt x="243241" y="783771"/>
                  <a:pt x="230878" y="774905"/>
                  <a:pt x="228727" y="762000"/>
                </a:cubicBezTo>
                <a:cubicBezTo>
                  <a:pt x="219276" y="705289"/>
                  <a:pt x="303663" y="721336"/>
                  <a:pt x="326698" y="718457"/>
                </a:cubicBezTo>
                <a:cubicBezTo>
                  <a:pt x="323070" y="700314"/>
                  <a:pt x="329861" y="676070"/>
                  <a:pt x="315813" y="664029"/>
                </a:cubicBezTo>
                <a:cubicBezTo>
                  <a:pt x="299055" y="649665"/>
                  <a:pt x="270668" y="662107"/>
                  <a:pt x="250498" y="653143"/>
                </a:cubicBezTo>
                <a:cubicBezTo>
                  <a:pt x="236430" y="646891"/>
                  <a:pt x="228727" y="631372"/>
                  <a:pt x="217841" y="620486"/>
                </a:cubicBezTo>
                <a:cubicBezTo>
                  <a:pt x="214213" y="609600"/>
                  <a:pt x="208579" y="599188"/>
                  <a:pt x="206956" y="587829"/>
                </a:cubicBezTo>
                <a:cubicBezTo>
                  <a:pt x="201288" y="548153"/>
                  <a:pt x="210143" y="505613"/>
                  <a:pt x="196070" y="468086"/>
                </a:cubicBezTo>
                <a:cubicBezTo>
                  <a:pt x="183247" y="433892"/>
                  <a:pt x="143748" y="409093"/>
                  <a:pt x="108984" y="402772"/>
                </a:cubicBezTo>
                <a:cubicBezTo>
                  <a:pt x="80201" y="397539"/>
                  <a:pt x="50927" y="395515"/>
                  <a:pt x="21898" y="391886"/>
                </a:cubicBezTo>
                <a:cubicBezTo>
                  <a:pt x="25527" y="366486"/>
                  <a:pt x="23573" y="339634"/>
                  <a:pt x="32784" y="315686"/>
                </a:cubicBezTo>
                <a:cubicBezTo>
                  <a:pt x="42177" y="291264"/>
                  <a:pt x="76327" y="250372"/>
                  <a:pt x="76327" y="250372"/>
                </a:cubicBezTo>
                <a:cubicBezTo>
                  <a:pt x="72698" y="221343"/>
                  <a:pt x="73847" y="191307"/>
                  <a:pt x="65441" y="163286"/>
                </a:cubicBezTo>
                <a:cubicBezTo>
                  <a:pt x="61563" y="150358"/>
                  <a:pt x="17609" y="124140"/>
                  <a:pt x="11013" y="119743"/>
                </a:cubicBezTo>
                <a:cubicBezTo>
                  <a:pt x="7384" y="108857"/>
                  <a:pt x="-1140" y="98490"/>
                  <a:pt x="127" y="87086"/>
                </a:cubicBezTo>
                <a:cubicBezTo>
                  <a:pt x="3604" y="55795"/>
                  <a:pt x="19010" y="27547"/>
                  <a:pt x="32784" y="0"/>
                </a:cubicBezTo>
              </a:path>
            </a:pathLst>
          </a:custGeom>
          <a:noFill/>
          <a:ln w="55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олилиния 1"/>
          <p:cNvSpPr/>
          <p:nvPr/>
        </p:nvSpPr>
        <p:spPr>
          <a:xfrm>
            <a:off x="1609560" y="3895560"/>
            <a:ext cx="552600" cy="9720"/>
          </a:xfrm>
          <a:custGeom>
            <a:avLst/>
            <a:gdLst/>
            <a:ahLst/>
            <a:rect l="l" t="t" r="r" b="b"/>
            <a:pathLst>
              <a:path w="552450" h="9695">
                <a:moveTo>
                  <a:pt x="0" y="9695"/>
                </a:moveTo>
                <a:cubicBezTo>
                  <a:pt x="400017" y="-2070"/>
                  <a:pt x="215853" y="170"/>
                  <a:pt x="552450" y="170"/>
                </a:cubicBez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Полилиния 4"/>
          <p:cNvSpPr/>
          <p:nvPr/>
        </p:nvSpPr>
        <p:spPr>
          <a:xfrm>
            <a:off x="1628640" y="3924360"/>
            <a:ext cx="495360" cy="360"/>
          </a:xfrm>
          <a:custGeom>
            <a:avLst/>
            <a:gdLst/>
            <a:ahLst/>
            <a:rect l="l" t="t" r="r" b="b"/>
            <a:pathLst>
              <a:path w="495300" h="0">
                <a:moveTo>
                  <a:pt x="0" y="0"/>
                </a:moveTo>
                <a:lnTo>
                  <a:pt x="495300" y="0"/>
                </a:ln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как ракушки каури попали на национальную одежду бесермян д. Филимоново Юкаменского район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играла важную жизнеобеспечивающую роль в жизни людей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так же оказали влияние  на историю и культуру народов проживающих в бассейне изученных нами р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речному пути в наших краях появились различные заморские украшения, монеты, книги, посу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9T17:35:18Z</dcterms:created>
  <dc:creator>admin</dc:creator>
  <dc:description/>
  <dc:language>en-US</dc:language>
  <cp:lastModifiedBy>admin</cp:lastModifiedBy>
  <dcterms:modified xsi:type="dcterms:W3CDTF">2021-11-23T07:50:33Z</dcterms:modified>
  <cp:revision>14</cp:revision>
  <dc:subject/>
  <dc:title>Интегрированный, интерактивный урок географии с использованием регионального компонента</dc:title>
</cp:coreProperties>
</file>